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A11-4ADB-47AB-8ECC-3842C6B3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5E9-6049-45CA-822E-367DCA3B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C422-C0C7-4F51-B935-45A3EF25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A11-192B-4E31-ABA1-F29259C0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D8A3-80A6-4A75-B026-AA2A2D1B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864-E88E-4EC9-91F6-F9124E7D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7DA-C35B-45DF-AAC9-3988253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431-6606-4F29-B030-359A4E1D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DD5-10CE-48DD-BFAC-C92877F1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B27-1CC9-443C-901A-3CEEB5D1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E10-FBBD-4CC1-96F5-4914F67A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E96-C9F7-4E64-92D8-6A8FDDD7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3236-F119-4CCC-878C-59FFA87640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4994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50Z</dcterms:modified>
  <cp:revision>74</cp:revision>
  <dc:subject/>
  <dc:title>Boden aktuell</dc:title>
</cp:coreProperties>
</file>